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9A130-BED7-467A-8BDA-045B20C64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BEFAF-DDF8-4323-86D4-695563078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2245C-FC7F-45FD-BABF-FC5C02156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C14E5-A3F9-4A83-8791-46665A8F7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B43FF-FD80-4225-B85E-0E000D0DE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61A5B-B887-48E3-92C5-EE5876341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C34BF-6FC8-48E9-9344-18AB30123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6A865-C6C6-4D0D-A660-6A8DF4436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72863-F394-4E22-9C09-CB1AF608B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F5FAB-6BCA-4E40-8D1D-6868CCCBC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E2BFD-0D2B-45A1-9515-C00A7A212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14288-7DD8-450F-A418-705CC2461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4E17A-BCD3-49A9-BA08-5631B7CB30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lcome Back!!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y Gizmo and Charl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6" descr="C:\Users\morgan\Pictures\2009-11-30 xmas2\xmas2 007.JPG"/>
          <p:cNvPicPr/>
          <p:nvPr/>
        </p:nvPicPr>
        <p:blipFill>
          <a:blip r:embed="rId1"/>
          <a:stretch/>
        </p:blipFill>
        <p:spPr>
          <a:xfrm>
            <a:off x="228600" y="1828800"/>
            <a:ext cx="4267080" cy="47242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7" descr="C:\Users\morgan\Pictures\2009-11-30 xmas2\charlie angel.JPG"/>
          <p:cNvPicPr/>
          <p:nvPr/>
        </p:nvPicPr>
        <p:blipFill>
          <a:blip r:embed="rId2"/>
          <a:stretch/>
        </p:blipFill>
        <p:spPr>
          <a:xfrm>
            <a:off x="4648320" y="1828800"/>
            <a:ext cx="42670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 1/7/10</a:t>
            </a:r>
            <a:br>
              <a:rPr sz="44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anda Morgan, MS, OTR/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k your neighbor what was the 1 best thing about our Brea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Act or To Draw… That is the Ques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alk Quietly Back to your seats or mini-gy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 Act or To Dra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 will be divided up into tea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 person from your team wi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ick a c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y will have to draw or act what is on the c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 minute lim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 can no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y the wo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rite the wo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rules may develop during the ga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4T13:57:58Z</dcterms:created>
  <dc:creator>morgan</dc:creator>
  <dc:description/>
  <dc:language>en-US</dc:language>
  <cp:lastModifiedBy>otusers</cp:lastModifiedBy>
  <dcterms:modified xsi:type="dcterms:W3CDTF">2010-02-15T15:20:56Z</dcterms:modified>
  <cp:revision>4</cp:revision>
  <dc:subject/>
  <dc:title>Gizmo and Charlie</dc:title>
</cp:coreProperties>
</file>